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816B-6D55-476A-80C0-6213586941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2A3-E41B-455C-8965-DD362F7DFC2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703B-17C8-4A3E-B085-A4CD1A3CAFA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90FF-A130-4841-8B74-2B1445E64A0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2C9-0BA3-49AE-96DC-54690D4A37C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B4C-EBFE-425B-9885-1820EC32F0D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B70-43C6-4324-80D5-E143A671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2E6-F4ED-43CB-A0A5-ECFCB757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B56-DDAE-4D65-A65D-F19444F5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AA7-77D3-4954-A325-1A2567A9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0886-DB6E-4C1D-BCFD-178D7110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15B9-D0B4-40C0-9D6F-BDA7C3E1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6CE7-79DE-45EB-84DD-D5A2F20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653F-7891-475B-A9E6-CB85AEC3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A473-E3C0-4606-AB21-BFAB1D1C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CF05-4087-47AD-98A3-71F21930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D843-D2F0-47BD-9F45-B827E600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BCF-DDEB-4E1F-B673-2CD7D5CC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7C41-FF09-45A9-B2C9-56F40D8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2874-C8BA-4A9F-94A2-F98DD755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AE39-287D-464B-AC06-83777040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48F0-A4DC-4DF8-86C7-24ABFF80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CE2C-80BC-4675-A66A-575756B6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10D-C5E5-4101-B460-94386792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E8E-A763-4B8F-A77D-9964F518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6CA-FB49-40AA-97D5-B515ED28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2B8-3DE0-40E7-AD68-89C4E913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BE1-9723-4394-9022-83C91CD6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61B-34A9-4237-931C-8AE715BF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4F4-C03A-4023-900B-5ECBA6C1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7782-EA17-4EB0-BD48-EFC7AF32F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BD0-BBA1-4917-AADB-3AA60C357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136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eec94"/>
                </a:solidFill>
                <a:latin typeface="Elephant"/>
              </a:rPr>
              <a:t>    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mbre: Zachary D. Kolows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990720" y="0"/>
            <a:ext cx="7086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i Cas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sala es grande y boni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2692440"/>
            <a:ext cx="56768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jardin es  grande y  boni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5181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medor es grande y boni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 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cocina es increible y grand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hobbit-house-englande"/>
          <p:cNvPicPr/>
          <p:nvPr/>
        </p:nvPicPr>
        <p:blipFill>
          <a:blip r:embed="rId1"/>
          <a:stretch/>
        </p:blipFill>
        <p:spPr>
          <a:xfrm>
            <a:off x="1981080" y="2590920"/>
            <a:ext cx="4953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ano es apestoso y peque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Tree-House-Bathroom"/>
          <p:cNvPicPr/>
          <p:nvPr/>
        </p:nvPicPr>
        <p:blipFill>
          <a:blip r:embed="rId1"/>
          <a:stretch/>
        </p:blipFill>
        <p:spPr>
          <a:xfrm>
            <a:off x="2590920" y="2286000"/>
            <a:ext cx="348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patio es bonito y estpen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" descr="http://t0.gstatic.com/images?q=tbn:ANd9GcQf3G3XMScDdxLiN9mWNoAfmRB0w-2-ZFqF4Um4qFHs2T-5RvDX"/>
          <p:cNvPicPr/>
          <p:nvPr/>
        </p:nvPicPr>
        <p:blipFill>
          <a:blip r:embed="rId1"/>
          <a:stretch/>
        </p:blipFill>
        <p:spPr>
          <a:xfrm>
            <a:off x="3048120" y="2133720"/>
            <a:ext cx="3143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 Dormitorio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 dormitorio es grande y modern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2" descr="http://t0.gstatic.com/images?q=tbn:ANd9GcRsnjs73ZKm7Os_twswA2gaF4Obd1Rx9LnlI0i_3lM4rm6PBUfaLg&amp;t=1"/>
          <p:cNvPicPr/>
          <p:nvPr/>
        </p:nvPicPr>
        <p:blipFill>
          <a:blip r:embed="rId1"/>
          <a:stretch/>
        </p:blipFill>
        <p:spPr>
          <a:xfrm>
            <a:off x="2057400" y="2819520"/>
            <a:ext cx="431964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4:11Z</dcterms:created>
  <dc:creator>kolowskyzac</dc:creator>
  <dc:description/>
  <dc:language>en-US</dc:language>
  <cp:lastModifiedBy>Gateway</cp:lastModifiedBy>
  <dcterms:modified xsi:type="dcterms:W3CDTF">2011-04-08T20:23:06Z</dcterms:modified>
  <cp:revision>9</cp:revision>
  <dc:subject/>
  <dc:title>    </dc:title>
</cp:coreProperties>
</file>